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CE22E-B510-4F38-9A49-598B2291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9F866-4B79-494E-B36A-FE003124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8D1C3-E1CA-4162-8549-456615C3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18C1-B79A-4E9A-8848-E76993D9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AEC7-72FB-4EB7-A0D5-8163A753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8FA2-A11A-4667-A4BA-A832DF00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72BE-5EB5-41C9-9580-4BE9A2C7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2002-2D2E-49AE-9EAE-6D8D43ED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035A-2A82-434A-8675-8F4F374D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7284-A3F6-4BD8-AB83-1F83345B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3444-4F3C-4F0B-880A-A9B64DFA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ADE86-B2CE-42CD-9A6E-C306794A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A88A-87DB-4E98-86FB-67F0A603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D269-C721-41EB-B2ED-FEA8FF0E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C199-BDB7-4BA7-93EB-35588094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B445-75CA-4698-99AA-EE05A89B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FDD3-EBC6-4551-8C35-FA8865EF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9D8F8-7577-4D78-9929-D2C2603A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FEB60-7ED8-4CE1-B8E9-EFAE17B0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40CE1-5A3C-458B-9422-64E43CAB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E381-FF3C-46F9-A326-290C4CA2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4FC9-75DC-477D-8B6A-684EF58E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91B2-0A8C-4F59-A75F-A4358E32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FF565-6A70-4EC5-8E63-DA94A49B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60B0-340C-4FE3-B7B0-9EE1896FCD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5B7E-0D4D-4B85-ACE5-A62EAF9152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key-Plain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key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 small key length is a weakness of a Vigenere cipher one fix that has been used is called an autokey cip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keyw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keyword to encipher the first segment of plai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plaintext segment as the key for the next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12162-7863-4FA5-B3A8-A177E74BBA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96960" y="549576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 will implement this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74320" y="346860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urier New"/>
              </a:rPr>
              <a:t>anauto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pherprovidesalong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79000" y="32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7900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2520" y="32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7900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1252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u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4760" y="323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2656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4760" y="3692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ex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7360" y="3244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944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86480" y="3433680"/>
            <a:ext cx="8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46A06-7BF5-4418-9D08-FCC5D03684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4T02:51:55Z</dcterms:modified>
  <cp:revision>60</cp:revision>
  <dc:subject/>
  <dc:title>CAP Cryptographic Analysis Program</dc:title>
</cp:coreProperties>
</file>